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6263-8194-4B5E-9E3F-CB47A7C41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3AE2-FD7B-4D59-AC0E-62A5BF4B8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9631-5482-4214-8BEF-6E0C400C2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0D34-031C-4FA7-AC7D-94087379C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C3A4A-0DB9-40E9-B8B8-A709DC52C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61076-A56F-402D-8CB9-99EFDABAD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B89C8-AFAE-47B1-BEFC-27796F482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E1195-EBD5-47F6-BFD7-A2EFB5906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C0D7E-BE1E-4635-9210-92A7AC930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15427-A144-4D92-B55D-55A0A8102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01C32-E11F-4227-9855-89E5F0D6F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8251-7A2D-4952-9BD3-E0739DF4B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8C1C9-3B5F-40E8-92EE-2A4D6F495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6AC6F-3CC2-42A5-AD5B-FCB0124D3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4E0CA-30E4-4CAC-885D-5DB0FBE7F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39C40-0D2C-428F-A394-C6400E58E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C288B-5332-4709-A444-63BE13F46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0AC6-A8FE-4EBD-9F56-E89610408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7057-679B-41FC-8476-9DC90E310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E8E9-7BD8-4ED4-BC4E-FE9ADD087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A1F5-C70B-4ABE-AD85-86D6C5FC3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21F7-98E3-4623-8FD9-C81981AC2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EB6B-DD9B-4A6C-B439-89B036313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3FC3-DD1A-4037-9FFD-EA3C4D426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29408-1673-44F9-9A82-30F2045C2AD1}" type="slidenum">
              <a:rPr b="0" lang="es-E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464F1-49D0-4B27-B3CC-5B075792741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634920" y="1196640"/>
            <a:ext cx="496908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остях у Русского язы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26"/>
          <p:cNvSpPr/>
          <p:nvPr/>
        </p:nvSpPr>
        <p:spPr>
          <a:xfrm>
            <a:off x="3708360" y="4508640"/>
            <a:ext cx="496908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классное мероприятие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русскому языку в 5 класс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 учитель русского языка и литературы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сорова Диана Баянбековн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3512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«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Загадочное царств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а «Алфави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фруйте пословицу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ДИ В ПЛЕО ЕН ОВИ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запишите строчными буквами предложением с  заглавной буквы в начале и точкой в кон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одсказки - «воин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а «Словосочетан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фруйте пословицу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ДЕ МЕРЯВ, А ХЕТЕПО САЧ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запишите строчными буквами предложением с  заглавной буквы в начале и точкой в кон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одсказки - «врем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3"/>
          <p:cNvSpPr/>
          <p:nvPr/>
        </p:nvSpPr>
        <p:spPr>
          <a:xfrm>
            <a:off x="3059280" y="3141720"/>
            <a:ext cx="1008000" cy="5032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4"/>
          <p:cNvSpPr/>
          <p:nvPr/>
        </p:nvSpPr>
        <p:spPr>
          <a:xfrm>
            <a:off x="2987640" y="6021360"/>
            <a:ext cx="1297080" cy="504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5"/>
          <p:cNvSpPr/>
          <p:nvPr/>
        </p:nvSpPr>
        <p:spPr>
          <a:xfrm>
            <a:off x="7812000" y="6093000"/>
            <a:ext cx="1152720" cy="576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6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Трехязычие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8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ой команде по очереди загадываются пословицы с пропущенным словом. Учащиеся должны найти пропущенное слово и перевести его на казахский и английский языки. За каждый правильный ответ вы получите по 1 баллу. Максимальный балл - 3 бал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Трехязычие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8064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пеши ..., торопись дел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язык, тіл, tongue [tʌŋ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познается в бед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руг, дос, friend [frend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освещается солнцем, а человек – знани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ир, әлем, universe [ju:nɪvɜ:s] или world [wɜ:l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траха ... вел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глаза, көз, ey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a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прославляет тру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человек, адам, man [mæn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– лучший дру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нига, кітап, book [bʊk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ихо-варение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8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из участников команд должен прочитать наизусть стихотворение. Критерии оценивания: название произведения и автор, выразительность, эмоциональность, громкость. Максимальный балл – 4 бал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корофонограмм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8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словия конкурса: команды выстраиваются в прямую линию. Учитель сообщает скороговорку первому игроку, по сигналу тот шепотом передает ее второму и т.д. Последний должен внятно и громко произнести скороговорку. Критерии оценивание – это внятность и громкость. Максимальный балл – 2 бал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корофонограмм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живом уголке жили ежи да уж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жит ежик у елки, а у ежа игол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гают две курицы прямо по улиц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24300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ершающая иг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33336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КВАС пишется слитно, а К ВАМ – раздельно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лово «квас» - имя существительное, а – «к вам» - местоимение с предлогом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существительное состоит из трёх О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ТРИ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местоимение требует чистоты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О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к птицы – это первый сло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ой – известен всем предлог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третий – бурная волн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ерь шарада всем ясн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АР – НА – ВА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Ы мы мчим вас что есть мо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У – мы ноги вам промочи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ЛЫЖИ – ЛУЖИ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http://www.belgdb.ru/assets/templates/project/2015/teenager/under_sun/img/main.png"/>
          <p:cNvPicPr/>
          <p:nvPr/>
        </p:nvPicPr>
        <p:blipFill>
          <a:blip r:embed="rId1"/>
          <a:stretch/>
        </p:blipFill>
        <p:spPr>
          <a:xfrm>
            <a:off x="395280" y="1628640"/>
            <a:ext cx="8271000" cy="4896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Беспроигрышная лотере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илеты под номерами 101, 102, 103, 104 – получают офицерские линейк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мера 105, 106, 107 – цветные карандаш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мера 108, 109, 110 – блокн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мера 111, 112, 113 – клей П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мера 114, 115 – руч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мера 116, 117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ная литератур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импиадные задания «Глаголъ» для 5 класса по русскому язы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блоны презентаций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http://templated.ru/obrazovanie/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пычева Марина Станиславовна. Открытое внеклассное мероприятие на тему: «В гостях у русского языка».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http://www.openclass.ru/node/1676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Ирина Александровна Остряко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.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Сценарий открытия недели русского язык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Calibri"/>
              </a:rPr>
              <a:t>http://www.proshkolu.ru/contest/nedelya/file2/24256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619280" y="1600200"/>
            <a:ext cx="706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ий, польский и английск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альянский и бельгийский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говорные друз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о чем же это 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3" descr=""/>
          <p:cNvPicPr/>
          <p:nvPr/>
        </p:nvPicPr>
        <p:blipFill>
          <a:blip r:embed="rId1"/>
          <a:stretch/>
        </p:blipFill>
        <p:spPr>
          <a:xfrm>
            <a:off x="5796000" y="3141720"/>
            <a:ext cx="2879640" cy="3311640"/>
          </a:xfrm>
          <a:prstGeom prst="rect">
            <a:avLst/>
          </a:prstGeom>
          <a:ln w="9360">
            <a:solidFill>
              <a:srgbClr val="97470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116000" y="115920"/>
            <a:ext cx="764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ечно, с детства ты знак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великим Русским Языком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, чтобы грамотным прослыть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ть красиво говори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хорошо учитьс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ним стоит подружить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, между прочим, он сейча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дёт не дождётся в гости на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ам открыть тебе го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реты звуков, букв и сл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иветствие»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бал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ветствуем команду «Алфави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ветствуем команду «Словосочетани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http://3.bp.blogspot.com/-1JE3BamWQqI/Usw8Iv4dOVI/AAAAAAAAChg/sXooFefFsFA/s1600/%D0%9F%D1%80%D0%B8%D0%B2%D0%B5%D1%82.png"/>
          <p:cNvPicPr/>
          <p:nvPr/>
        </p:nvPicPr>
        <p:blipFill>
          <a:blip r:embed="rId1"/>
          <a:stretch/>
        </p:blipFill>
        <p:spPr>
          <a:xfrm>
            <a:off x="6732720" y="189000"/>
            <a:ext cx="2103480" cy="187776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Фонетическое лакомств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</a:t>
            </a:r>
            <a:br>
              <a:rPr sz="36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балл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ремя для ответа – 3 мину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94920" y="1557360"/>
            <a:ext cx="431964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а «Алфави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е, сколько раз в загадке встречается звук [а]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мотрите, дом стоит,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краёв водой налит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окошек, но не мрачный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четырёх сторон прозрачный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м домике жильцы —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прекрасные плов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запишите цифр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861080" y="1557360"/>
            <a:ext cx="431928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а «Словосочетан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е, сколько раз в загадке встречается звук [о]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мотрите, дом стоит,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краёв водой налит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окошек, но не мрачный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четырёх сторон прозрачный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м домике жильцы —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прекрасные пловц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запишите цифр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с болельщик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06400" y="836280"/>
            <a:ext cx="822960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ую строчку не сможет прочитать ни один человек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Швейную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руки бывают местоимениям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огда они ВЫ-МЫ-Т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те местоимения, которые мешают водителям на дорог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Я-М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буквой Р она течё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буквой П для вас печёт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ебяки и ватрушки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т кашу и галуш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ЕЧКА – ПЕЧКА)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можно видеть с закрытыми глазам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О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35120" y="4428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Анаграмм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26560" y="1125360"/>
            <a:ext cx="820908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Анаграмма — перестановка букв в слове, создающая новое слово (например, роман — норма). Вам необходимо составить к данным словам новые слова. За правильный ответ вы получите по 1 баллу. Время для ответа–2 мину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манда «Алфави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ставьте к данному слову  одно новое: 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сна 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манда «Словосочетани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ставьте к данному слову  одно новое: 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бан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с болельщик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35120" y="63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ние какого дерева состоит из четырёх предлогов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-О-С-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какого фразеологизма марсиане могли бы заключить, что у человека не две ноги, а больш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БЕЖАТЬ СО ВСЕХ НО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ь ли ноги у газеты, книги, журнал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ЕСТЬ, КОГДА ИХ ДЕРЖАТ «ВВЕРХ НОГАМИ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глухим траву она срезает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 звонким – листья объеда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ОСА – КОЗ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й первый слог найдёшь тогда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в котле кипит вода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именье – слог второй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 целом – столик школьный тв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АР – Т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гадочное царство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этом царстве вам предстоит расшифровать пословицу.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Ответ запишите строчными буквами предложением с  заглавной буквы в начале и точкой в конце. Оцениваться задание будет пятибалльной шкале: грамотность, соблюдение орфографических норм, полнота ответа, время, не использование подсказки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ремя для ответа – 4 мину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17:55:06Z</dcterms:created>
  <dc:creator>Mariajose</dc:creator>
  <dc:description/>
  <dc:language>en-US</dc:language>
  <cp:lastModifiedBy>User</cp:lastModifiedBy>
  <dcterms:modified xsi:type="dcterms:W3CDTF">2017-01-29T16:07:18Z</dcterms:modified>
  <cp:revision>44</cp:revision>
  <dc:subject/>
  <dc:title>Diapositiva 1</dc:title>
</cp:coreProperties>
</file>